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69B-E352-41DD-80FF-DF9A48C1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A1B-DD5E-4DE2-B73B-DFB55414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84A-E88C-4D16-86B3-9B9D3116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A9B-401F-462B-AA46-CB26CCE2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724-1D01-43E0-A3B2-D256BF76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091-BC16-4E68-9134-DAD8434F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992-F107-42FD-8521-E583CBB0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B7F-9FF0-4B99-9DAA-EB3822C5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929-9485-4536-A343-43BD0FE5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F24-0967-4156-BD68-B673BDA7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E7B-C2BC-48A5-B355-B865CCA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334-168E-44E6-A142-D8C2D10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1992-825C-4B57-AB02-BE9B72B25F8D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30304" t="12613" r="26814" b="58618"/>
          <a:stretch/>
        </p:blipFill>
        <p:spPr>
          <a:xfrm>
            <a:off x="33480" y="407880"/>
            <a:ext cx="6761160" cy="3434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rcRect l="30304" t="85737" r="26814" b="7803"/>
          <a:stretch/>
        </p:blipFill>
        <p:spPr>
          <a:xfrm>
            <a:off x="141120" y="9055080"/>
            <a:ext cx="6518520" cy="738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5632560" y="519120"/>
            <a:ext cx="958680" cy="22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HD46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73160" y="2521080"/>
            <a:ext cx="292392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Philips Consumer Life 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4910040" y="139680"/>
            <a:ext cx="16812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0"/>
          <p:cNvSpPr/>
          <p:nvPr/>
        </p:nvSpPr>
        <p:spPr>
          <a:xfrm>
            <a:off x="382680" y="4186080"/>
            <a:ext cx="4549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sp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DUCT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ral specif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dl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n slip fe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gonomic gr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sy spout fil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de opening l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d 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omatic shut-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il-dry 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0 degrees 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d as well as spout fil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lat heating el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 specif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terials: Heating element: Stainless steel,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using: Polypropylene/ AB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itch &amp; toolholder: Polypropyl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or(s): White and 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141120" y="8305560"/>
            <a:ext cx="666936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sp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product meets the requirements regarding interference suppression on radio and TV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After the product has been repaired, it should function properly and has to meet the safety requirements as officially laid down at this mo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349800" y="4257000"/>
            <a:ext cx="26492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TECHNICAL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pacity: 1.5 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wer: 2000-2400 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d length: 0.75 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ltage: 220-240 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quency: 50-60 H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"/>
          <p:cNvPicPr/>
          <p:nvPr/>
        </p:nvPicPr>
        <p:blipFill>
          <a:blip r:embed="rId3"/>
          <a:stretch/>
        </p:blipFill>
        <p:spPr>
          <a:xfrm>
            <a:off x="2657520" y="519120"/>
            <a:ext cx="1819080" cy="2162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3349800" y="5532480"/>
            <a:ext cx="3429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duct dimensions (WxDxH): 16.6x23x24.9 c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349800" y="661032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IONAL (accessori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 specific issu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276120" y="9387000"/>
            <a:ext cx="196236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"/>
          <p:cNvSpPr/>
          <p:nvPr/>
        </p:nvSpPr>
        <p:spPr>
          <a:xfrm>
            <a:off x="274680" y="150840"/>
            <a:ext cx="636408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LODED VIEW                                                                             HD46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0" descr=""/>
          <p:cNvPicPr/>
          <p:nvPr/>
        </p:nvPicPr>
        <p:blipFill>
          <a:blip r:embed="rId1"/>
          <a:srcRect l="4823" t="2813" r="4739" b="1299"/>
          <a:stretch/>
        </p:blipFill>
        <p:spPr>
          <a:xfrm>
            <a:off x="561960" y="942840"/>
            <a:ext cx="5391000" cy="84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640" y="149400"/>
            <a:ext cx="2895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410080" y="32688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D46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66760" y="988920"/>
          <a:ext cx="6372000" cy="8686800"/>
        </p:xfrm>
        <a:graphic>
          <a:graphicData uri="http://schemas.openxmlformats.org/drawingml/2006/table">
            <a:tbl>
              <a:tblPr/>
              <a:tblGrid>
                <a:gridCol w="304920"/>
                <a:gridCol w="1180800"/>
                <a:gridCol w="2714760"/>
                <a:gridCol w="2171520"/>
              </a:tblGrid>
              <a:tr h="424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s 12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ROCKER PRIMARY 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DEEP BLACK PHILIPS 80231 PRI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50 /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ROCKER STAR WH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000341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ROCKER CELESTIAL BL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09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ROCKER SIL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20/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51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ROCKER VERMIL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Z5 OT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0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UPPER STAR WH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40 HD4646/00 HD4646/70 HD4646/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UPPER DEEP BLACK PHILIPS 80231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50 HD4646/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UPPER BL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20/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E CONNECTOR (OTTER CS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0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LOWER STAR WH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40 HD4646/00HD4646/70 HD4646/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8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LOWER BL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50 HD4646/20 HD4646/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 LATCH PRIMERY 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 LATCH STAR WH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 LATCH DEEP BLACK PHILIPS 802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50 HD4646/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4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 LATCH SIL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20/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 LATCH CELESSTIAL BL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51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 LATCH VERMIL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0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 STAR WH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40 HD4646/00 HD4646/70 HD4646/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 MONZA RED PHILIPS 209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50 HD4646/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 BL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20/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8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NATUR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YFIX SEAL  DIA 1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5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LOWER PRIMERY 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90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LOWER MONZA 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50 HD4646/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31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LOWER STAR WH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0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4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LOWER BL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20/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1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000341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LOWER CELESTIAL BL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4646/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3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65100751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LOWER VERMIL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4646/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5791320" y="141120"/>
            <a:ext cx="89532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D46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84120" y="237960"/>
            <a:ext cx="17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sion Li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65232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 A: HD4646/40/50 initial release. ---wk14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 B: add new Models HD4646/00/20/70/55 into SM.  ---wk15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rsion C: add new model HD4646/91 into SM.   ------wk15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ersion D: add new model HD4646/56 into SM.  ----wk16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6:43:32Z</dcterms:created>
  <dc:creator>WARMUTH, JOACHIM</dc:creator>
  <dc:description/>
  <dc:language>en-US</dc:language>
  <cp:lastModifiedBy>Philips</cp:lastModifiedBy>
  <dcterms:modified xsi:type="dcterms:W3CDTF">2016-04-01T02:04:13Z</dcterms:modified>
  <cp:revision>293</cp:revision>
  <dc:subject/>
  <dc:title>Folie 1</dc:title>
</cp:coreProperties>
</file>